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B57-C608-452B-9966-EAD8637A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702-CBA7-4501-9C10-8644433D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110-AFC7-4A45-812A-2C784C38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0C9-4B2E-4863-BFA8-A162BEE5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314-099E-400A-9AC0-05BCF90B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2B99-7AFD-4788-87B7-AE2A83BA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5174-C387-4F1E-8046-FDF0841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57A-0F76-40B8-9D7E-C6F0E29E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E7C-32B7-4889-8A7D-989AD65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FAC8-4EB7-4A74-A37B-67D5C1CC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5C90-BB75-4704-8B22-2C5A5D9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C64-8AAD-4B0B-AF21-59B1859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4288-DFED-4699-8E03-0516811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9B2A-B51C-4B26-84F2-F91E813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0723-FC74-4A85-BB13-54BEC7A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D300-1D6E-4140-94AD-17B454BA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482E-436F-4092-B11B-8505EA19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B14-4190-4A4C-80DD-33A74D67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87E-F27F-4198-B92A-0C99567C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444-84FE-495B-90AD-F711B5A0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54A-61CE-46D3-9C82-109685DA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52C-89CF-4D1E-A53F-5CAD83C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A0E-659C-4D1A-A9AF-F6F042D9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BEC-8A85-41BE-933A-702F8C9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904E-4B4F-4F6D-9578-28BA33F4CAA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82E0-CF73-4662-877A-C65C7FB57AA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Using the Grade 9 Applied Mathematics Assessment II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Arial"/>
              </a:rPr>
              <a:t>Looking at the Item Information Report: Student Roster Fi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Applied Mathematics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PCDSB 2008-2009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amination of all items with a score of less than 60% has suggested that areas of challenge in Dufferin-Peel in 2008-2009 were likely to be related t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thematical processes, particularly problem solving (multi-step), reasoning and proving, connecting, and represent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vel ways of asking students to demonstrate their mathematical knowledg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For questions regarding the EQAO files or this presentation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Kathy Russell-Kw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Researcher, Program Department, Ext. 2455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kathy.russell-kwan@dpcdsb.or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Mathematics EQAO Fil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QAO provides a variety of files regarding the Grade 9 assessments of mathematic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etailed, internal board and school reports of aggregate achievement for diverse learner group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All students and Participating Students public reports for the board, schools, and provi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ndividual Student Data files containing demographic and outcomes data for studen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tem Information Report: Student Roster files containing item-by-item data for individual students, the school, board, and provi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rofile of strengths and areas for improvement summari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Mathematics EQAO Fil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QAO provides a variety of files regarding the Grade 9 assessments of mathematic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 questionnaire results for the school and boar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oard-level teacher questionnaire resul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chool and board summary of results over tim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ramework document explaining the assessment, the assessment process, and curriculum connections and bluepri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Released assessment items and scoring guid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Guides to interpreting resul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Provincial highlights and summari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Other resources for educators and paren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7d47d"/>
                </a:solidFill>
                <a:latin typeface="Arial"/>
              </a:rPr>
              <a:t>Individual Student Data File (ISD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ere are two student-level files available to schools: the ISD and the II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e ISD is accessible via your school’s secure  EQAO web site.</a:t>
            </a:r>
            <a:br>
              <a:rPr sz="2400"/>
            </a:b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is file contains outcome, demographic and accommodations information for each individual student, including those not participating in the assessment(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is file can assist with student-level and cohort inquir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7d47d"/>
                </a:solidFill>
                <a:latin typeface="Arial"/>
              </a:rPr>
              <a:t>Item Information Report: Student Roster (IIR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IIR files are accessible via your school’s secure  EQAO web site.</a:t>
            </a:r>
            <a:br>
              <a:rPr sz="2000"/>
            </a:b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IIR contains data regarding the responses provided by each student for each released item on the assessment, as well as indication of each student’s overall achievement leve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summary band below the student data contains aggregate performance information for each question for the school, board, province, and students across the province who achieved Level 3 or higher overall on the assessme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is file can assist with student-level and cohort inquiry, as well as comparisons between school, board and provi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Using the IIR Fi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23880"/>
            <a:ext cx="7386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The IIR can be used to assist actual members of the cohort. There may be some application of overall trends to future assessment cohorts.</a:t>
            </a:r>
            <a:br>
              <a:rPr sz="2200"/>
            </a:b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In the summary band, the number for each multiple choice item (MC) represents the percentage of students who got the item correct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In the summary band, the number for each open response item (OR) represents the average score point achieved by all students in the respective population, expressed as a percentage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Cautions with the II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IIR findings represent a starting point for looking at student data. Examination of other student data can supplement IIR data and provide greater understanding about student learning need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EQAO assessment questions are designed for a variety of student ability levels.</a:t>
            </a:r>
            <a:br>
              <a:rPr sz="2000"/>
            </a:b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re are relatively few questions per strand and per curriculum expectation. Conclusions about student learning needs cannot be made on the basis of only a few item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Clustering of questions is required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Applied Mathematics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PCDSB Winter 2008-2009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multiple choic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8 (26%), MGV.02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 (28%), MGV.02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 (30%), NAV.01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 (36%), NAV.02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5 (43%), NAV.02, K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4 (48%), NAV.01, K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open respons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1 (mean score point of 35%, or approx. 14/40), MGV.03, A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5 (mean score point of 35%, or approx. 15/40), LRV.03, A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Applied Mathematics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PCDSB Spring 2008-2009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multiple choic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8 (24%), MGV.02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1(28%), LRV.03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 (40%), NAV.02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4 (47%), NAV.02, K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 (48%), NAV.01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open respons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5 (mean score point of 48%, or approx. 14/40), NAV.01, P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6:19:27Z</dcterms:created>
  <dc:creator>test</dc:creator>
  <dc:description/>
  <dc:language>en-US</dc:language>
  <cp:lastModifiedBy>CorpAdmin</cp:lastModifiedBy>
  <dcterms:modified xsi:type="dcterms:W3CDTF">2009-11-10T16:42:52Z</dcterms:modified>
  <cp:revision>8</cp:revision>
  <dc:subject/>
  <dc:title>A Survey of EQAO Data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075769</vt:r8>
  </property>
  <property fmtid="{D5CDD505-2E9C-101B-9397-08002B2CF9AE}" pid="3" name="_AuthorEmail">
    <vt:lpwstr>Kathy.Russell-Kwan@dpcdsb.org</vt:lpwstr>
  </property>
  <property fmtid="{D5CDD505-2E9C-101B-9397-08002B2CF9AE}" pid="4" name="_AuthorEmailDisplayName">
    <vt:lpwstr>Russell-Kwan, Kathy</vt:lpwstr>
  </property>
  <property fmtid="{D5CDD505-2E9C-101B-9397-08002B2CF9AE}" pid="5" name="_EmailSubject">
    <vt:lpwstr>Grade 9 Applied Math IIR Agg.ppt</vt:lpwstr>
  </property>
</Properties>
</file>